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0159-680C-4AE3-9D19-FCF383B84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NORA is used by both the government and the private sector for its profiling capabilities. Ask students to provide potential examples of NORA (other than the one mentioned in the caption) for both governmental and business purposes. One such example might be an airline identifying potential terrorists attempting to board a plane.  Another might government identifying potential terrorists by monitoring phone call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formation systems do not exist in a vacuum and that these concepts are instrumental in understanding the impact of systems and measuring their success. Ask students why liability and due process are such important ethical concepts? (A rough answer would be that they provide recourse to individuals negatively affected by mismanagement of information systems, providing incentive to ‘play by the ru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any aspect of ethical analysis is lacking from this process? If so, what? Can students offer a brief example of an ethical dilemma and how they would resolve it using this process? One class exercise is to work with students to identify an ethical situation they are aware of, or that may have been in the news.  Then, go through the ethical analysis described in the slide to illustrate the process of analyzing an ethical situ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students understand the difference between the categorical imperative and the rule of change. Briefly, the difference is that the categorical imperative spans the entirety of the populace, while the rule of change applies to the decisions of one person over time. For example, the categorical imperative applies to an employee who tries to steal money from his employer. He shouldn’t do this, because if all employees attempted to do so, the company would fail. The rule of change applied to the same situation might run as follows: while the employee’s stealing one dollar from the company would not lead to any true problem, repeatedly stealing one dollar, or stealing a lot of dollars, would be unacceptable and ultimately lead to the destruction of the compan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no free lunch” rule relate to copyrights, patents, and trademarks? (These concepts are discussed in lat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ppearance of unethical behavior is as harmful as actual unethical behavior at times, so adherence to these principles are critical. In an age of “open software” how does the principle of “no free lunch” work ou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thical dilemmas include companies trying to use new systems to reduce the size of their workforce, such as telephone companies using automated systems to reduce the need for human operators. Emphasize that in cases like these, right and wrong are not clearly defined, but instead, contrasting values are at odds with one another (companies value productivity, employees value their wor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re are sufficient protections for privacy in law? If not, what are possible methods of developing appropriate privacy protections? Table 4-3 in the text lists a variety of other laws affecting both the government and private institutions, but few areas of the private sector as well regulated with respect to privacy.  Do an in-class poll and ask students who among them feel they can control the use of their personal information on the Internet.  You should get no one raising their han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is meant by a ‘mutuality of interest between record holder and individual.’ (Briefly, the individual wants to engage in a transaction, and the record holder needs information about the individual to support the transaction – both are interested parties in the trans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ve  Fair Information Practices provide the foundation for all privacy legislation in the United States, and much of Europe.  You might go to a popular Web site, find its privacy policy, and see how well the site conforms to the principles above.  Chances are good that the Web site you choose will have several statements in their policies which permit them to do anything they want with personal in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 protections of privacy are far more powerful than the United States because they require informed consent before a firm can do anything with personal information besides support the transaction at hand.  In Europe, there is no junk postal mail for instance because advertising firms are prohibited from using personal information obtained from third parties, and without the consent of the individua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first impressions are after seeing these objectives. Can they point to examples of how information systems have affected everyday life? If not, explain that they will be surprised to learn that information systems affect almost every area of daily life. Can students explain how the Internet poses challenges to privacy and intellectual property? Ask them how Google, Facebook, and peer-to-peer networks are related to these issu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tudents attitudes towards these technologies? Emphasize that cookies can be useful at trusted sites, but perhaps invasive at others. Have students had any experience with spyware or Web bugs on their own comput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inpoint where potential privacy invasions might occur in the process shown above. Students may suggest that no real privacy violation is occurring in the figure, which is a legitimate point of view. If so, ask them how they might feel about a Web site they did not trust engaging in the displayed proce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businesses should be pressed to provide more comprehensive privacy protections online? Explain that businesses prefer the looser regulation, but that individuals may not. Also emphasize that most individuals do not take the proper steps to ensure their own privacy in any case.  Most people do not know how to protect their privacy online.  Does that mean that privacy is unimportant or that people don’t ca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familiar with privacy statements such as these? How many students actually take the time to read the privacy statements of sites to which they give personal information? Ask students if they are familiar with the privacy statements for MySpace and Facebook, for examp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P3P is a standard of privacy intended to provide Web surfers more information about the sites they visit. Also explain that P3P is not universal, and that many sites are not members of the World Wide Web Consortium, which uses P3P.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configured their own privacy preferences in such a way that they see messages like this at any point? If not, do they care? Are they concerned about the privacy policies of any of the sites they visit? (Students may be reluctant to answer this ques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 property rights guaranteed by trade secrets, copyrights, and patents are strong enough to avoid the theft of intellectual property online?  Give an example of a trade secret (the formula for Coke; a method of doing business or business process).  Give an example of a  copyright (which could include the copyright of an online business process like Amazon’s One Click shopping).  And give an example of a paten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willing to admit to infringing upon intellectual property rights themselves, but ask them whether they are familiar with the Internet and its ability to bypass intellectual property protections. Do they believe that legislation like the DMCA is having any effect?  How many have friends who download “free” music from P2P sights?  Free video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example from the text, who do students consider to be the liable party for the incident involving Bank of America customers whose paychecks were denied due to an operating error at the bank’s computer center? Is it the designers of the systems at the center? Is there no liability involved? Explain that it is difficult to ascribe liability to software developers for the same reason that it is difficult to ascribe a publisher liability for the effects of a boo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opinion about when software is ‘good enough?’ Does it depend on the particular product? For example, distinguish between software used by air traffic controllers and software used for word processing. Do students believe that there are different levels of acceptable quality for these produ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ether or not they themselves have student loans and whether this incident concerns them. Emphasize both the benefits and drawbacks of this system and ask students to describe other situations where privacy invasions are likely. What data about themselves are students willing to disclose to others? What aren’t they willing to disclo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they have witnessed any of these negative consequences first hand. It’s likely that they know someone who has become dependent on their computer to some extent or have even experienced something similar first-hand. Which of the above consequences do students feel is the most alarm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tudents’ initial reactions to the case study and 13-year old Megan Meier’s suicide? Ask students to develop methods to control cyberbullying, as described in the second question above. But, while no one is likely to question the worth of curtailing cyberbullying, caution them that laws outlawing cyberbullying and regulating MySpace which impose overly strong countermeasures have the potential to infringe upon other rights of Web us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experience with spam is. A notable statistic is that spam has accounts for over 75 percent of all e-mail traffic and is relatively unlikely to decrease, because it is so difficult to regulate and so cheap to s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 end result of continuing advances in information technology will be rising unemployment and a small number of elite corporate professionals? Students may enjoy debating this idea, which is somewhat far-fetched, but conceptually stimulat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in an earlier chapter, Wal-Mart was offered as the gold standard for operational excellence (p. 13 in the text and Ch. 1 in slides). This case illustrates that different values yield a different impression of the company. Where do students stand on Wal-Mart and business practices such as these? Is world-class operational excellence worth implementing systems like flexible scheduling to achieve? Why or why no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ncountered any of these health risks, either from personal experience or from someone they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xamples of ethical failures to ask students about. You could ask how information systems or their absence might have been related to the current financial crisis in the United States, the investment banks that have suffered heavy losses, and individuals who were able to defraud investors of millions.  What role did IS have in this cri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of the ethical dilemmas that are presented by information systems and new developments in technology. Privacy is an important issue – mention the opening case again and explain that Google (chapter-ending case), Facebook, and other similar sites often run into trouble regarding privacy inva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provide any examples of how IT has challenged some area of ethics, social life, or legal arrange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graphic displays the five moral dimensions listed in the caption.  Consider online p2p music as an example of how a new technology has ethical, social, and eventually political (legal) ramification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of each of the five major issues. For example, an issue dealing with information rights might be, what rights do individuals possess with respect to themselves? What do they have a right to protect? An issue dealing with quality of life might be, what values should be preserved in an information- and knowledge- based society? An issue dealing with system quality might be, what standards of data and system quality should we demand to protect individual rights and the safety of societ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trends do students believe might have the most adverse consequences? Why do they feel this way? Do the positives outweigh the negatives for all four issues? Why or why no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fld id="{1744589D-2A55-45F3-A929-58A4309DDE9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380880" y="2851200"/>
            <a:ext cx="853452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Ethical and Social Issues in </a:t>
            </a:r>
            <a:r>
              <a:rPr b="1" lang="en-US" sz="5400" spc="-1" strike="noStrike">
                <a:solidFill>
                  <a:srgbClr val="9f0f10"/>
                </a:solidFill>
                <a:latin typeface="Century Schoolbook"/>
              </a:rPr>
              <a:t>Information Systems</a:t>
            </a:r>
            <a:endParaRPr b="0" lang="en-US" sz="5400" spc="-1" strike="noStrike">
              <a:solidFill>
                <a:srgbClr val="000000"/>
              </a:solidFill>
              <a:latin typeface="Times New Roman"/>
            </a:endParaRPr>
          </a:p>
        </p:txBody>
      </p:sp>
      <p:grpSp>
        <p:nvGrpSpPr>
          <p:cNvPr id="54" name=""/>
          <p:cNvGrpSpPr/>
          <p:nvPr/>
        </p:nvGrpSpPr>
        <p:grpSpPr>
          <a:xfrm>
            <a:off x="1676520" y="1905120"/>
            <a:ext cx="5867280" cy="0"/>
            <a:chOff x="1676520" y="1905120"/>
            <a:chExt cx="5867280" cy="0"/>
          </a:xfrm>
        </p:grpSpPr>
        <p:sp>
          <p:nvSpPr>
            <p:cNvPr id="55" name=""/>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onobvious Relationship Awareness (NORA)</a:t>
            </a:r>
            <a:endParaRPr b="0" lang="en-US" sz="2400" spc="-1" strike="noStrike">
              <a:solidFill>
                <a:srgbClr val="000000"/>
              </a:solidFill>
              <a:latin typeface="Times New Roman"/>
            </a:endParaRPr>
          </a:p>
        </p:txBody>
      </p:sp>
      <p:sp>
        <p:nvSpPr>
          <p:cNvPr id="8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Times New Roman"/>
            </a:endParaRPr>
          </a:p>
        </p:txBody>
      </p:sp>
      <p:sp>
        <p:nvSpPr>
          <p:cNvPr id="88" name=""/>
          <p:cNvSpPr/>
          <p:nvPr/>
        </p:nvSpPr>
        <p:spPr>
          <a:xfrm>
            <a:off x="0" y="4800600"/>
            <a:ext cx="18288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RA technology can take information about people from disparate sources and find obscure, nonobvious relationships. It might discover, for example, that an applicant for a job at a casino shares a telephone number with a known criminal and issue an alert to the hiring manager.</a:t>
            </a:r>
            <a:endParaRPr b="0" lang="en-US" sz="900" spc="-1" strike="noStrike">
              <a:solidFill>
                <a:srgbClr val="000000"/>
              </a:solidFill>
              <a:latin typeface="Times New Roman"/>
            </a:endParaRPr>
          </a:p>
        </p:txBody>
      </p:sp>
      <p:sp>
        <p:nvSpPr>
          <p:cNvPr id="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0" name=""/>
          <p:cNvSpPr/>
          <p:nvPr/>
        </p:nvSpPr>
        <p:spPr>
          <a:xfrm>
            <a:off x="152388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graphicFrame>
        <p:nvGraphicFramePr>
          <p:cNvPr id="91" name=""/>
          <p:cNvGraphicFramePr/>
          <p:nvPr/>
        </p:nvGraphicFramePr>
        <p:xfrm>
          <a:off x="2362320" y="2128680"/>
          <a:ext cx="4305240" cy="4043520"/>
        </p:xfrm>
        <a:graphic>
          <a:graphicData uri="http://schemas.openxmlformats.org/presentationml/2006/ole">
            <p:oleObj r:id="rId2" spid="">
              <p:embed/>
              <p:pic>
                <p:nvPicPr>
                  <p:cNvPr id="92" name="" descr=""/>
                  <p:cNvPicPr/>
                  <p:nvPr/>
                </p:nvPicPr>
                <p:blipFill>
                  <a:blip r:embed="rId3"/>
                  <a:stretch/>
                </p:blipFill>
                <p:spPr>
                  <a:xfrm>
                    <a:off x="2362320" y="2128680"/>
                    <a:ext cx="4305240" cy="404352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concepts form the underpinning of an ethical analysis of information systems and those who manage them</a:t>
            </a:r>
            <a:endParaRPr b="0" lang="en-US" sz="24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y: </a:t>
            </a:r>
            <a:r>
              <a:rPr b="0" lang="en-US" sz="2000" spc="-1" strike="noStrike">
                <a:solidFill>
                  <a:srgbClr val="000000"/>
                </a:solidFill>
                <a:latin typeface="Arial"/>
              </a:rPr>
              <a:t>Accepting the potential costs, duties, and obligations for decision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ability: </a:t>
            </a:r>
            <a:r>
              <a:rPr b="0" lang="en-US" sz="2000" spc="-1" strike="noStrike">
                <a:solidFill>
                  <a:srgbClr val="000000"/>
                </a:solidFill>
                <a:latin typeface="Arial"/>
              </a:rPr>
              <a:t>Mechanisms for identifying responsible partie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bility: </a:t>
            </a:r>
            <a:r>
              <a:rPr b="0" lang="en-US" sz="2000" spc="-1" strike="noStrike">
                <a:solidFill>
                  <a:srgbClr val="000000"/>
                </a:solidFill>
                <a:latin typeface="Arial"/>
              </a:rPr>
              <a:t>Permits individuals (and firms) to recover damages done to them </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process: </a:t>
            </a:r>
            <a:r>
              <a:rPr b="0" lang="en-US" sz="2000" spc="-1" strike="noStrike">
                <a:solidFill>
                  <a:srgbClr val="000000"/>
                </a:solidFill>
                <a:latin typeface="Arial"/>
              </a:rPr>
              <a:t>Laws are well known and understood, with an ability to appeal to higher authorities</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5"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analysis: A five-step process</a:t>
            </a:r>
            <a:endParaRPr b="0" lang="en-US" sz="28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clearly describe the facts</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conflict or dilemma and identify the higher-order values involved</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takeholders</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options that you can reasonably take</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potential consequences of your option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8" name=""/>
          <p:cNvSpPr/>
          <p:nvPr/>
        </p:nvSpPr>
        <p:spPr>
          <a:xfrm>
            <a:off x="11430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 Ethical Principle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den Ru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unto others as you would have them do unto you</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anuel Kant’s Categorical Imperativ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ction is not right for everyone to take, it is not right for anyon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artes' rule of chang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ction cannot be taken repeatedly, it is not right to take at all</a:t>
            </a:r>
            <a:endParaRPr b="0" lang="en-US" sz="2000" spc="-1" strike="noStrike">
              <a:solidFill>
                <a:srgbClr val="000000"/>
              </a:solidFill>
              <a:latin typeface="Times New Roman"/>
            </a:endParaRPr>
          </a:p>
        </p:txBody>
      </p:sp>
      <p:sp>
        <p:nvSpPr>
          <p:cNvPr id="10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1"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 Ethical Principles (cont.)</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tarian Princip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action that achieves the higher or greater valu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version Princip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action that produces the least harm or least potential cost</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ical “no free lunch” ru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virtually all tangible and intangible objects are owned by someone unless there is a specific declaration otherwise</a:t>
            </a:r>
            <a:endParaRPr b="0" lang="en-US" sz="2000" spc="-1" strike="noStrike">
              <a:solidFill>
                <a:srgbClr val="000000"/>
              </a:solidFill>
              <a:latin typeface="Times New Roman"/>
            </a:endParaRPr>
          </a:p>
        </p:txBody>
      </p:sp>
      <p:sp>
        <p:nvSpPr>
          <p:cNvPr id="10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4"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essional codes of conduct</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ulgated by associations of professionals</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MA, ABA, AITP, ACM</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s by professions to regulate themselves in the general interest of society</a:t>
            </a:r>
            <a:endParaRPr b="0" lang="en-US" sz="2400" spc="-1" strike="noStrike">
              <a:solidFill>
                <a:srgbClr val="000000"/>
              </a:solidFill>
              <a:latin typeface="Times New Roman"/>
            </a:endParaRPr>
          </a:p>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world ethical dilemma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et of interests pitted against another</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ight of company to maximize productivity of workers vs. workers right to use Internet for short personal tasks</a:t>
            </a:r>
            <a:endParaRPr b="0" lang="en-US" sz="2400" spc="-1" strike="noStrike">
              <a:solidFill>
                <a:srgbClr val="000000"/>
              </a:solidFill>
              <a:latin typeface="Times New Roman"/>
            </a:endParaRPr>
          </a:p>
        </p:txBody>
      </p:sp>
      <p:sp>
        <p:nvSpPr>
          <p:cNvPr id="10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7"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57200" y="1523880"/>
            <a:ext cx="8458200" cy="43452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rights and obligation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 of individuals to be left alone, free from surveillance or interference from other individuals, organizations, or the state. </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ntrol information about yourself</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 privacy protected by:</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Amendment (freedom of speech)</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Amendment (unreasonable search and seizure)</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federal statues</a:t>
            </a:r>
            <a:endParaRPr b="0" lang="en-US" sz="2000" spc="-1" strike="noStrike">
              <a:solidFill>
                <a:srgbClr val="000000"/>
              </a:solidFill>
              <a:latin typeface="Times New Roman"/>
            </a:endParaRPr>
          </a:p>
          <a:p>
            <a:pPr lvl="3" marL="165744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ct of 1974</a:t>
            </a:r>
            <a:endParaRPr b="0" lang="en-US" sz="1800" spc="-1" strike="noStrike">
              <a:solidFill>
                <a:srgbClr val="000000"/>
              </a:solidFill>
              <a:latin typeface="Times New Roman"/>
            </a:endParaRPr>
          </a:p>
          <a:p>
            <a:pPr marL="457200" indent="-4572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0"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information practices: </a:t>
            </a:r>
            <a:endParaRPr b="0" lang="en-US" sz="24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principles governing the collection and use of information</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of most U.S. and European privacy laws</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mutuality of interest between record holder and individual </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ed and extended by FTC in 1998 to provide guidelines for protecting online privacy</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drive changes in privacy legislation</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A</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Leach-Bliley Act</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3"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C FIP principles: </a:t>
            </a:r>
            <a:endParaRPr b="0" lang="en-US" sz="24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ce/awareness (core principle):</a:t>
            </a:r>
            <a:r>
              <a:rPr b="0" lang="en-US" sz="2000" spc="-1" strike="noStrike">
                <a:solidFill>
                  <a:srgbClr val="000000"/>
                </a:solidFill>
                <a:latin typeface="Arial"/>
              </a:rPr>
              <a:t> </a:t>
            </a:r>
            <a:r>
              <a:rPr b="0" lang="en-US" sz="1800" spc="-1" strike="noStrike">
                <a:solidFill>
                  <a:srgbClr val="000000"/>
                </a:solidFill>
                <a:latin typeface="Arial"/>
              </a:rPr>
              <a:t>Web sites must disclose practices before collecting data</a:t>
            </a:r>
            <a:endParaRPr b="0" lang="en-US" sz="18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consent (core principle):</a:t>
            </a:r>
            <a:r>
              <a:rPr b="0" lang="en-US" sz="2000" spc="-1" strike="noStrike">
                <a:solidFill>
                  <a:srgbClr val="000000"/>
                </a:solidFill>
                <a:latin typeface="Arial"/>
              </a:rPr>
              <a:t> </a:t>
            </a:r>
            <a:r>
              <a:rPr b="0" lang="en-US" sz="1800" spc="-1" strike="noStrike">
                <a:solidFill>
                  <a:srgbClr val="000000"/>
                </a:solidFill>
                <a:latin typeface="Arial"/>
              </a:rPr>
              <a:t>Consumers must be able to choose how information is used for secondary purposes</a:t>
            </a:r>
            <a:endParaRPr b="0" lang="en-US" sz="1800" spc="-1" strike="noStrike">
              <a:solidFill>
                <a:srgbClr val="000000"/>
              </a:solidFill>
              <a:latin typeface="Times New Roman"/>
            </a:endParaRPr>
          </a:p>
          <a:p>
            <a:pPr lvl="1" marL="102888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participation</a:t>
            </a:r>
            <a:r>
              <a:rPr b="0" lang="en-US" sz="2000" spc="-1" strike="noStrike">
                <a:solidFill>
                  <a:srgbClr val="000000"/>
                </a:solidFill>
                <a:latin typeface="Arial"/>
              </a:rPr>
              <a:t>: Consumers must be able to review, contest accuracy of personal data</a:t>
            </a:r>
            <a:endParaRPr b="0" lang="en-US" sz="20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r>
              <a:rPr b="0" lang="en-US" sz="2000" spc="-1" strike="noStrike">
                <a:solidFill>
                  <a:srgbClr val="000000"/>
                </a:solidFill>
                <a:latin typeface="Arial"/>
              </a:rPr>
              <a:t>: </a:t>
            </a:r>
            <a:r>
              <a:rPr b="0" lang="en-US" sz="1800" spc="-1" strike="noStrike">
                <a:solidFill>
                  <a:srgbClr val="000000"/>
                </a:solidFill>
                <a:latin typeface="Arial"/>
              </a:rPr>
              <a:t>Data collectors must take steps to ensure accuracy, security of personal data</a:t>
            </a:r>
            <a:endParaRPr b="0" lang="en-US" sz="18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forcement</a:t>
            </a:r>
            <a:r>
              <a:rPr b="0" lang="en-US" sz="2000" spc="-1" strike="noStrike">
                <a:solidFill>
                  <a:srgbClr val="000000"/>
                </a:solidFill>
                <a:latin typeface="Arial"/>
              </a:rPr>
              <a:t>: </a:t>
            </a:r>
            <a:r>
              <a:rPr b="0" lang="en-US" sz="1800" spc="-1" strike="noStrike">
                <a:solidFill>
                  <a:srgbClr val="000000"/>
                </a:solidFill>
                <a:latin typeface="Arial"/>
              </a:rPr>
              <a:t>Must be mechanism to enforce FIP principles</a:t>
            </a:r>
            <a:endParaRPr b="0" lang="en-US" sz="1800" spc="-1" strike="noStrike">
              <a:solidFill>
                <a:srgbClr val="000000"/>
              </a:solidFill>
              <a:latin typeface="Times New Roman"/>
            </a:endParaRPr>
          </a:p>
          <a:p>
            <a:pPr marL="457200" indent="-4572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6"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167652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Directive on Data Protection: </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companies to inform people when they collect information about them and disclose how it will be stored and used. </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t>
            </a:r>
            <a:r>
              <a:rPr b="1" lang="en-US" sz="2400" spc="-1" strike="noStrike">
                <a:solidFill>
                  <a:srgbClr val="a50021"/>
                </a:solidFill>
                <a:latin typeface="Arial"/>
              </a:rPr>
              <a:t>informed consent</a:t>
            </a:r>
            <a:r>
              <a:rPr b="0" lang="en-US" sz="2400" spc="-1" strike="noStrike">
                <a:solidFill>
                  <a:srgbClr val="000000"/>
                </a:solidFill>
                <a:latin typeface="Arial"/>
              </a:rPr>
              <a:t> of customer (not true in the U.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member nations cannot transfer personal data to countries without similar privacy protection (e.g. U.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usinesses use </a:t>
            </a:r>
            <a:r>
              <a:rPr b="1" lang="en-US" sz="2400" spc="-1" strike="noStrike">
                <a:solidFill>
                  <a:srgbClr val="a50021"/>
                </a:solidFill>
                <a:latin typeface="Arial"/>
              </a:rPr>
              <a:t>safe harbor</a:t>
            </a:r>
            <a:r>
              <a:rPr b="0" lang="en-US" sz="2400" spc="-1" strike="noStrike">
                <a:solidFill>
                  <a:srgbClr val="000000"/>
                </a:solidFill>
                <a:latin typeface="Arial"/>
              </a:rPr>
              <a:t> framework</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2000" spc="-1" strike="noStrike">
                <a:solidFill>
                  <a:srgbClr val="000000"/>
                </a:solidFill>
                <a:latin typeface="Arial"/>
              </a:rPr>
              <a:t>elf-regulating policy and enforcement that meets  objectives of government legislation but does not involve government regulation or enforcement.</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9"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6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ethical, social, and political issues that are raised by information system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principles for conduct that can be used to guide ethical decision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impact of contemporary information systems and the Internet on the protection of individual privacy and intellectual property.</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how information systems have affected everyday life.</a:t>
            </a:r>
            <a:endParaRPr b="0" lang="en-US" sz="2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Challenges to Privacy: </a:t>
            </a:r>
            <a:endParaRPr b="0" lang="en-US" sz="24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kies</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y files downloaded by Web site to visitor’s hard drive</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visitor’s browser and track visits to site</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Web sites to develop profiles on visitors</a:t>
            </a:r>
            <a:endParaRPr b="0" lang="en-US" sz="1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bugs</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y graphics embedded in e-mail messages and Web pages</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to monitor who is reading a message and transmitting that  information to another computer on the Internet</a:t>
            </a:r>
            <a:endParaRPr b="0" lang="en-US" sz="1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yware</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eptitiously installed on user’s computer</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transmit user’s keystrokes or display unwanted ads</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22" name=""/>
          <p:cNvSpPr/>
          <p:nvPr/>
        </p:nvSpPr>
        <p:spPr>
          <a:xfrm>
            <a:off x="14479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95280" y="126360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2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2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ookies Identify Web Visitors</a:t>
            </a:r>
            <a:endParaRPr b="0" lang="en-US" sz="2400" spc="-1" strike="noStrike">
              <a:solidFill>
                <a:srgbClr val="000000"/>
              </a:solidFill>
              <a:latin typeface="Times New Roman"/>
            </a:endParaRPr>
          </a:p>
        </p:txBody>
      </p:sp>
      <p:sp>
        <p:nvSpPr>
          <p:cNvPr id="12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Times New Roman"/>
            </a:endParaRPr>
          </a:p>
        </p:txBody>
      </p:sp>
      <p:sp>
        <p:nvSpPr>
          <p:cNvPr id="127" name=""/>
          <p:cNvSpPr/>
          <p:nvPr/>
        </p:nvSpPr>
        <p:spPr>
          <a:xfrm>
            <a:off x="1371600" y="5562720"/>
            <a:ext cx="670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okies are written by a Web site on a visitor’s hard drive. When the visitor returns to that Web site, the Web server requests the ID number from the cookie and uses it to access the data stored by that server on that visitor. The Web site can then use these data to display personalized information. </a:t>
            </a:r>
            <a:endParaRPr b="0" lang="en-US" sz="900" spc="-1" strike="noStrike">
              <a:solidFill>
                <a:srgbClr val="000000"/>
              </a:solidFill>
              <a:latin typeface="Times New Roman"/>
            </a:endParaRPr>
          </a:p>
        </p:txBody>
      </p:sp>
      <p:pic>
        <p:nvPicPr>
          <p:cNvPr id="128" name="" descr=""/>
          <p:cNvPicPr/>
          <p:nvPr/>
        </p:nvPicPr>
        <p:blipFill>
          <a:blip r:embed="rId2"/>
          <a:stretch/>
        </p:blipFill>
        <p:spPr>
          <a:xfrm>
            <a:off x="1371600" y="2117880"/>
            <a:ext cx="6477120" cy="336852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57200" y="167652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allows businesses to gather transaction information and use this for other marketing purpos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dustry promotes self-regulation over privacy legislation</a:t>
            </a:r>
            <a:endParaRPr b="0" lang="en-US" sz="2400" spc="-1" strike="noStrike">
              <a:solidFill>
                <a:srgbClr val="000000"/>
              </a:solidFill>
              <a:latin typeface="Times New Roman"/>
            </a:endParaRPr>
          </a:p>
          <a:p>
            <a:pPr marL="457200" indent="-457200">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regulation has proven highly variable</a:t>
            </a:r>
            <a:endParaRPr b="0" lang="en-US" sz="2400" spc="-1" strike="noStrike">
              <a:solidFill>
                <a:srgbClr val="000000"/>
              </a:solidFill>
              <a:latin typeface="Times New Roman"/>
            </a:endParaRPr>
          </a:p>
          <a:p>
            <a:pPr lvl="1" marL="914400" indent="-457200">
              <a:lnSpc>
                <a:spcPct val="100000"/>
              </a:lnSpc>
              <a:spcAft>
                <a:spcPts val="1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of information use are quite different</a:t>
            </a:r>
            <a:endParaRPr b="0" lang="en-US" sz="2400" spc="-1" strike="noStrike">
              <a:solidFill>
                <a:srgbClr val="000000"/>
              </a:solidFill>
              <a:latin typeface="Times New Roman"/>
            </a:endParaRPr>
          </a:p>
          <a:p>
            <a:pPr lvl="1" marL="914400" indent="-457200">
              <a:lnSpc>
                <a:spcPct val="100000"/>
              </a:lnSpc>
              <a:spcAft>
                <a:spcPts val="1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rms offer opt-out selection boxe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als” of privacy principl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eb sites do not have any privacy polici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nline privacy policies do not protect customer privacy, but rather protect the firm from lawsuits</a:t>
            </a:r>
            <a:endParaRPr b="0" lang="en-US" sz="2400" spc="-1" strike="noStrike">
              <a:solidFill>
                <a:srgbClr val="000000"/>
              </a:solidFill>
              <a:latin typeface="Times New Roman"/>
            </a:endParaRPr>
          </a:p>
          <a:p>
            <a:pPr lvl="3" marL="165744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1"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4" name=""/>
          <p:cNvSpPr/>
          <p:nvPr/>
        </p:nvSpPr>
        <p:spPr>
          <a:xfrm>
            <a:off x="1600200" y="5943600"/>
            <a:ext cx="59436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sites are posting their privacy policies for visitors to review. The TRUSTe seal designates Web sites that have agreed to adhere to TRUSTe’s established privacy principles of disclosure, choice, access, and security.</a:t>
            </a:r>
            <a:endParaRPr b="0" lang="en-US" sz="900" spc="-1" strike="noStrike">
              <a:solidFill>
                <a:srgbClr val="000000"/>
              </a:solidFill>
              <a:latin typeface="Times New Roman"/>
            </a:endParaRPr>
          </a:p>
        </p:txBody>
      </p:sp>
      <p:pic>
        <p:nvPicPr>
          <p:cNvPr id="135" name="" descr=""/>
          <p:cNvPicPr/>
          <p:nvPr/>
        </p:nvPicPr>
        <p:blipFill>
          <a:blip r:embed="rId2"/>
          <a:stretch/>
        </p:blipFill>
        <p:spPr>
          <a:xfrm>
            <a:off x="1523880" y="1539720"/>
            <a:ext cx="6019920" cy="43275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solution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tform for Privacy Preferences (P3P)</a:t>
            </a:r>
            <a:endParaRPr b="0" lang="en-US" sz="24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Web sites to communicate privacy policies to visitor’s Web browser – user</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pecifies privacy levels desired in browser settings</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edium” level accepts cookies from first-party host sites that have opt-in or opt-out policies but rejects third-party cookies that use personally identifiable information without an opt-in policy.</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8"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1430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4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4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3P Standard</a:t>
            </a:r>
            <a:endParaRPr b="0" lang="en-US" sz="2400" spc="-1" strike="noStrike">
              <a:solidFill>
                <a:srgbClr val="000000"/>
              </a:solidFill>
              <a:latin typeface="Times New Roman"/>
            </a:endParaRPr>
          </a:p>
        </p:txBody>
      </p:sp>
      <p:sp>
        <p:nvSpPr>
          <p:cNvPr id="14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Times New Roman"/>
            </a:endParaRPr>
          </a:p>
        </p:txBody>
      </p:sp>
      <p:sp>
        <p:nvSpPr>
          <p:cNvPr id="143" name=""/>
          <p:cNvSpPr/>
          <p:nvPr/>
        </p:nvSpPr>
        <p:spPr>
          <a:xfrm>
            <a:off x="1371600" y="5562720"/>
            <a:ext cx="670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3P enables Web sites to translate their privacy policies into a standard format that can be read by the user’s Web browser software. The user’s Web browser software evaluates the Web site’s privacy policy to determine whether it is compatible with the user’s privacy preferences.</a:t>
            </a:r>
            <a:endParaRPr b="0" lang="en-US" sz="900" spc="-1" strike="noStrike">
              <a:solidFill>
                <a:srgbClr val="000000"/>
              </a:solidFill>
              <a:latin typeface="Times New Roman"/>
            </a:endParaRPr>
          </a:p>
        </p:txBody>
      </p:sp>
      <p:graphicFrame>
        <p:nvGraphicFramePr>
          <p:cNvPr id="144" name=""/>
          <p:cNvGraphicFramePr/>
          <p:nvPr/>
        </p:nvGraphicFramePr>
        <p:xfrm>
          <a:off x="1828800" y="2057400"/>
          <a:ext cx="5575320" cy="3338640"/>
        </p:xfrm>
        <a:graphic>
          <a:graphicData uri="http://schemas.openxmlformats.org/presentationml/2006/ole">
            <p:oleObj r:id="rId2" spid="">
              <p:embed/>
              <p:pic>
                <p:nvPicPr>
                  <p:cNvPr id="145" name="" descr=""/>
                  <p:cNvPicPr/>
                  <p:nvPr/>
                </p:nvPicPr>
                <p:blipFill>
                  <a:blip r:embed="rId3"/>
                  <a:stretch/>
                </p:blipFill>
                <p:spPr>
                  <a:xfrm>
                    <a:off x="1828800" y="2057400"/>
                    <a:ext cx="5575320" cy="3338640"/>
                  </a:xfrm>
                  <a:prstGeom prst="rect">
                    <a:avLst/>
                  </a:prstGeom>
                  <a:ln w="0">
                    <a:noFill/>
                  </a:ln>
                </p:spPr>
              </p:pic>
            </p:oleObj>
          </a:graphicData>
        </a:graphic>
      </p:graphicFrame>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Rights: Intellectual Property</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ectual property: </a:t>
            </a:r>
            <a:r>
              <a:rPr b="0" lang="en-US" sz="2400" spc="-1" strike="noStrike">
                <a:solidFill>
                  <a:srgbClr val="000000"/>
                </a:solidFill>
                <a:latin typeface="Arial"/>
              </a:rPr>
              <a:t>Intangible property of any kind created by individuals or corporation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ways that intellectual property is protected </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a:t>
            </a:r>
            <a:r>
              <a:rPr b="0" lang="en-US" sz="2000" spc="-1" strike="noStrike">
                <a:solidFill>
                  <a:srgbClr val="000000"/>
                </a:solidFill>
                <a:latin typeface="Arial"/>
              </a:rPr>
              <a:t> </a:t>
            </a:r>
            <a:r>
              <a:rPr b="1" lang="en-US" sz="2000" spc="-1" strike="noStrike">
                <a:solidFill>
                  <a:srgbClr val="000000"/>
                </a:solidFill>
                <a:latin typeface="Arial"/>
              </a:rPr>
              <a:t>secret</a:t>
            </a:r>
            <a:r>
              <a:rPr b="0" lang="en-US" sz="2000" spc="-1" strike="noStrike">
                <a:solidFill>
                  <a:srgbClr val="000000"/>
                </a:solidFill>
                <a:latin typeface="Arial"/>
              </a:rPr>
              <a:t>: Intellectual work or product belonging to business, not in the public domain</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right</a:t>
            </a:r>
            <a:r>
              <a:rPr b="0" lang="en-US" sz="2000" spc="-1" strike="noStrike">
                <a:solidFill>
                  <a:srgbClr val="000000"/>
                </a:solidFill>
                <a:latin typeface="Arial"/>
              </a:rPr>
              <a:t>: Statutory grant protecting intellectual property from being copied for the life of the author, plus 70 yea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ents</a:t>
            </a:r>
            <a:r>
              <a:rPr b="0" lang="en-US" sz="2000" spc="-1" strike="noStrike">
                <a:solidFill>
                  <a:srgbClr val="000000"/>
                </a:solidFill>
                <a:latin typeface="Arial"/>
              </a:rPr>
              <a:t>: Grants creator of invention an exclusive monopoly on ideas behind invention for 20 years</a:t>
            </a:r>
            <a:endParaRPr b="0" lang="en-US" sz="2000" spc="-1" strike="noStrike">
              <a:solidFill>
                <a:srgbClr val="000000"/>
              </a:solidFill>
              <a:latin typeface="Times New Roman"/>
            </a:endParaRPr>
          </a:p>
        </p:txBody>
      </p:sp>
      <p:sp>
        <p:nvSpPr>
          <p:cNvPr id="14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48"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s to Intellectual Property Rights</a:t>
            </a:r>
            <a:endParaRPr b="0" lang="en-US" sz="2800" spc="-1" strike="noStrike">
              <a:solidFill>
                <a:srgbClr val="000000"/>
              </a:solidFill>
              <a:latin typeface="Times New Roman"/>
            </a:endParaRPr>
          </a:p>
          <a:p>
            <a:pPr lvl="1"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media different from physical media (e.g. books)</a:t>
            </a:r>
            <a:endParaRPr b="0" lang="en-US" sz="24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replication</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transmission (networks, Internet)</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classifying software</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nes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ies in establishing uniqueness</a:t>
            </a:r>
            <a:endParaRPr b="0" lang="en-US" sz="2000" spc="-1" strike="noStrike">
              <a:solidFill>
                <a:srgbClr val="000000"/>
              </a:solidFill>
              <a:latin typeface="Times New Roman"/>
            </a:endParaRPr>
          </a:p>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Millenium Copyright Act (DMCA)</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it illegal to circumvent technology-based protections of copyrighted materials</a:t>
            </a:r>
            <a:endParaRPr b="0" lang="en-US" sz="2400" spc="-1" strike="noStrike">
              <a:solidFill>
                <a:srgbClr val="000000"/>
              </a:solidFill>
              <a:latin typeface="Times New Roman"/>
            </a:endParaRPr>
          </a:p>
        </p:txBody>
      </p:sp>
      <p:sp>
        <p:nvSpPr>
          <p:cNvPr id="15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1"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ability, Liability, Control</a:t>
            </a:r>
            <a:endParaRPr b="0" lang="en-US" sz="2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related liability problem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ftware fails, who is responsi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en as a part of a machine that injures or harms, software producer and operator may be lia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en as similar to a book, difficult to hold software author/publisher responsi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liability be if software is seen as service? Would this be similar to telephone systems not being liable for transmitted messages (so-called “common carrie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Quality: Data Quality and System Error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acceptable, technologically feasible level of system quality?</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wless software is economically unfeasibl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ncipal sources of poor system performance:</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bugs, erro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or facility failures</a:t>
            </a:r>
            <a:endParaRPr b="0" lang="en-US" sz="20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input data quality (most common source of business system failur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5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7"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38080" y="121932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Your Student Loan Data on Loan?</a:t>
            </a:r>
            <a:endParaRPr b="0" lang="en-US" sz="1600" spc="-1" strike="noStrike">
              <a:solidFill>
                <a:srgbClr val="000000"/>
              </a:solidFill>
              <a:latin typeface="Times New Roman"/>
            </a:endParaRPr>
          </a:p>
        </p:txBody>
      </p:sp>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Insufficient privacy protections for sensitive data related to student loans.</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Improve system security and protect student information</a:t>
            </a:r>
            <a:r>
              <a:rPr b="1" lang="en-US" sz="2200" spc="-1" strike="noStrike">
                <a:solidFill>
                  <a:srgbClr val="000000"/>
                </a:solidFill>
                <a:latin typeface="Arial"/>
              </a:rPr>
              <a:t> to restore confidence in the system.</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Revoke over 52,000 user IDs</a:t>
            </a:r>
            <a:r>
              <a:rPr b="1" lang="en-US" sz="2200" spc="-1" strike="noStrike">
                <a:solidFill>
                  <a:srgbClr val="000000"/>
                </a:solidFill>
                <a:latin typeface="Arial"/>
              </a:rPr>
              <a:t> suspected of misusing access to students’ private information.</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providing quick and convenient access to data.</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the very same technology has the potential to threaten privacy and cause more harm than good.</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of Life: </a:t>
            </a:r>
            <a:r>
              <a:rPr b="0" lang="en-US" sz="2400" spc="-1" strike="noStrike">
                <a:solidFill>
                  <a:srgbClr val="000000"/>
                </a:solidFill>
                <a:latin typeface="Arial"/>
              </a:rPr>
              <a:t>Negative social consequences of system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ing power</a:t>
            </a:r>
            <a:r>
              <a:rPr b="0" lang="en-US" sz="2000" spc="-1" strike="noStrike">
                <a:solidFill>
                  <a:srgbClr val="000000"/>
                </a:solidFill>
                <a:latin typeface="Arial"/>
              </a:rPr>
              <a:t>: Although computing power is decentralizing, key decision-making power remains centralized</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pidity of change</a:t>
            </a:r>
            <a:r>
              <a:rPr b="0" lang="en-US" sz="2000" spc="-1" strike="noStrike">
                <a:solidFill>
                  <a:srgbClr val="000000"/>
                </a:solidFill>
                <a:latin typeface="Arial"/>
              </a:rPr>
              <a:t>: Businesses may not have enough time to respond to global competition</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ing boundaries</a:t>
            </a:r>
            <a:r>
              <a:rPr b="0" lang="en-US" sz="2000" spc="-1" strike="noStrike">
                <a:solidFill>
                  <a:srgbClr val="000000"/>
                </a:solidFill>
                <a:latin typeface="Arial"/>
              </a:rPr>
              <a:t>: Computing and Internet use lengthens the work-day, infringes on family, personal tim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ence and vulnerability</a:t>
            </a:r>
            <a:r>
              <a:rPr b="0" lang="en-US" sz="2000" spc="-1" strike="noStrike">
                <a:solidFill>
                  <a:srgbClr val="000000"/>
                </a:solidFill>
                <a:latin typeface="Arial"/>
              </a:rPr>
              <a:t>: Public and private organizations ever more dependent on computer system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0"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0492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some of the technologies and communication methods used by cyberbullies? Why are they so effective?</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s have been taken by school districts and governments to combat cyberbullying? How helpful are they? Can you think of any other ways to effectively control cyberbullying?</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there be stronger laws outlawing cyberbullying? Why or why not?</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es a social networking site catering to teems such as MySpace represent an ethical dilemma? Why or why not?</a:t>
            </a:r>
            <a:endParaRPr b="0" lang="en-US" sz="1800" spc="-1" strike="noStrike">
              <a:solidFill>
                <a:srgbClr val="000000"/>
              </a:solidFill>
              <a:latin typeface="Times New Roman"/>
            </a:endParaRPr>
          </a:p>
        </p:txBody>
      </p:sp>
      <p:sp>
        <p:nvSpPr>
          <p:cNvPr id="162"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Should We Do About Cyberbullying?</a:t>
            </a:r>
            <a:endParaRPr b="0" lang="en-US" sz="2400" spc="-1" strike="noStrike">
              <a:solidFill>
                <a:srgbClr val="000000"/>
              </a:solidFill>
              <a:latin typeface="Times New Roman"/>
            </a:endParaRPr>
          </a:p>
        </p:txBody>
      </p:sp>
      <p:sp>
        <p:nvSpPr>
          <p:cNvPr id="16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crime and abuse</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crime</a:t>
            </a:r>
            <a:r>
              <a:rPr b="0" lang="en-US" sz="2000" spc="-1" strike="noStrike">
                <a:solidFill>
                  <a:srgbClr val="000000"/>
                </a:solidFill>
                <a:latin typeface="Arial"/>
              </a:rPr>
              <a:t>: Commission of illegal acts through use of compute or against a computer system – computer may be object or instrument of crime</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abuse</a:t>
            </a:r>
            <a:r>
              <a:rPr b="0" lang="en-US" sz="2000" spc="-1" strike="noStrike">
                <a:solidFill>
                  <a:srgbClr val="000000"/>
                </a:solidFill>
                <a:latin typeface="Arial"/>
              </a:rPr>
              <a:t>: Unethical acts, not illegal</a:t>
            </a:r>
            <a:endParaRPr b="0" lang="en-US" sz="2000" spc="-1" strike="noStrike">
              <a:solidFill>
                <a:srgbClr val="000000"/>
              </a:solidFill>
              <a:latin typeface="Times New Roman"/>
            </a:endParaRPr>
          </a:p>
          <a:p>
            <a:pPr lvl="3" marL="165744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m</a:t>
            </a:r>
            <a:r>
              <a:rPr b="0" lang="en-US" sz="1800" spc="-1" strike="noStrike">
                <a:solidFill>
                  <a:srgbClr val="000000"/>
                </a:solidFill>
                <a:latin typeface="Arial"/>
              </a:rPr>
              <a:t>: High costs for businesses in dealing with spam</a:t>
            </a:r>
            <a:endParaRPr b="0" lang="en-US" sz="1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ment:</a:t>
            </a:r>
            <a:r>
              <a:rPr b="0" lang="en-US" sz="2400" spc="-1" strike="noStrike">
                <a:solidFill>
                  <a:srgbClr val="000000"/>
                </a:solidFill>
                <a:latin typeface="Arial"/>
              </a:rPr>
              <a:t> Reengineering work resulting in lost job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and access – the digital divide</a:t>
            </a:r>
            <a:r>
              <a:rPr b="0" lang="en-US" sz="2400" spc="-1" strike="noStrike">
                <a:solidFill>
                  <a:srgbClr val="000000"/>
                </a:solidFill>
                <a:latin typeface="Arial"/>
              </a:rPr>
              <a:t>: Certain ethnic and income groups in the United States less likely to have computers or Internet access</a:t>
            </a:r>
            <a:endParaRPr b="0" lang="en-US" sz="2400" spc="-1" strike="noStrike">
              <a:solidFill>
                <a:srgbClr val="000000"/>
              </a:solidFill>
              <a:latin typeface="Times New Roman"/>
            </a:endParaRPr>
          </a:p>
        </p:txBody>
      </p:sp>
      <p:sp>
        <p:nvSpPr>
          <p:cNvPr id="16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7"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9"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170" name=""/>
          <p:cNvSpPr/>
          <p:nvPr/>
        </p:nvSpPr>
        <p:spPr>
          <a:xfrm>
            <a:off x="457200" y="243828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ethical dilemma facing Wal-Mart in this case? Do Wal-Mart’s associates also face an ethical dilemma? If so, what is i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ethical principles apply to this case? How do they appl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potential effects of computerized scheduling on employee morale? What are the consequences of these effects for Wal-Mart?</a:t>
            </a:r>
            <a:endParaRPr b="0" lang="en-US" sz="2000" spc="-1" strike="noStrike">
              <a:solidFill>
                <a:srgbClr val="000000"/>
              </a:solidFill>
              <a:latin typeface="Times New Roman"/>
            </a:endParaRPr>
          </a:p>
        </p:txBody>
      </p:sp>
      <p:sp>
        <p:nvSpPr>
          <p:cNvPr id="171" name=""/>
          <p:cNvSpPr/>
          <p:nvPr/>
        </p:nvSpPr>
        <p:spPr>
          <a:xfrm>
            <a:off x="380880" y="16002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lexible Scheduling at Wal-Mart: Good or Bad for Employees?</a:t>
            </a: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risks:</a:t>
            </a:r>
            <a:endParaRPr b="0" lang="en-US" sz="28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ve stress injury (RSI)</a:t>
            </a:r>
            <a:endParaRPr b="0" lang="en-US" sz="24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t source is computer keyboards</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al Tunnel Syndrome (CTS)</a:t>
            </a:r>
            <a:endParaRPr b="0" lang="en-US" sz="20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vision syndrome (CV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stres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radiation, screen emissions, low-level electromagnetic field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7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6" name="" descr=""/>
          <p:cNvPicPr/>
          <p:nvPr/>
        </p:nvPicPr>
        <p:blipFill>
          <a:blip r:embed="rId2"/>
          <a:stretch/>
        </p:blipFill>
        <p:spPr>
          <a:xfrm>
            <a:off x="343080" y="971640"/>
            <a:ext cx="8422920" cy="2747880"/>
          </a:xfrm>
          <a:prstGeom prst="rect">
            <a:avLst/>
          </a:prstGeom>
          <a:ln w="9360">
            <a:solidFill>
              <a:srgbClr val="ffffff"/>
            </a:solidFill>
            <a:miter/>
          </a:ln>
        </p:spPr>
      </p:pic>
      <p:sp>
        <p:nvSpPr>
          <p:cNvPr id="17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17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00200" y="129528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66" name=""/>
          <p:cNvSpPr/>
          <p:nvPr/>
        </p:nvSpPr>
        <p:spPr>
          <a:xfrm>
            <a:off x="457200" y="1827360"/>
            <a:ext cx="8458200" cy="4268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st five years: One of the most ethically challenged periods in U.S. histor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ses in management ethical and business judgment in a broad spectrum of industri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n, WorldCom, Parmalat, etc.</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prime loans and the failure of risk analysis: CitiBank and Societe Generale</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instrumental in many recent fraud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ffer sentencing guidelines, obstruction charges against firms, mean individual managers must take greater responsibility regarding ethical and legal conduct</a:t>
            </a:r>
            <a:endParaRPr b="0" lang="en-US" sz="2400" spc="-1" strike="noStrike">
              <a:solidFill>
                <a:srgbClr val="000000"/>
              </a:solidFill>
              <a:latin typeface="Times New Roman"/>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676520" y="13399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6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thics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inciples of right and wrong that individuals, acting as free moral agents, use to make choices to guide their behavior</a:t>
            </a:r>
            <a:endParaRPr b="0" lang="en-US" sz="24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ethic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raise new ethical questions because they create opportunities for:</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social change, threatening existing distributions of power, money,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kinds of crime</a:t>
            </a:r>
            <a:endParaRPr b="0" lang="en-US" sz="2400" spc="-1" strike="noStrike">
              <a:solidFill>
                <a:srgbClr val="000000"/>
              </a:solidFill>
              <a:latin typeface="Times New Roman"/>
            </a:endParaRPr>
          </a:p>
        </p:txBody>
      </p:sp>
      <p:sp>
        <p:nvSpPr>
          <p:cNvPr id="7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676520" y="129528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7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odel for thinking about ethical, social, and political issu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as a calm pond</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s a rock dropped in pond, creating ripples of new situations not covered by old rul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political institutions cannot respond overnight to these ripples — it may take years to develop etiquette, expectations, law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ethics to make choices in legally gray areas</a:t>
            </a:r>
            <a:endParaRPr b="0" lang="en-US" sz="2400" spc="-1" strike="noStrike">
              <a:solidFill>
                <a:srgbClr val="000000"/>
              </a:solidFill>
              <a:latin typeface="Times New Roman"/>
            </a:endParaRPr>
          </a:p>
        </p:txBody>
      </p:sp>
      <p:sp>
        <p:nvSpPr>
          <p:cNvPr id="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elationship Between Ethical, Social, and Political Issues in an Information Society</a:t>
            </a:r>
            <a:endParaRPr b="0" lang="en-US" sz="2400" spc="-1" strike="noStrike">
              <a:solidFill>
                <a:srgbClr val="000000"/>
              </a:solidFill>
              <a:latin typeface="Times New Roman"/>
            </a:endParaRPr>
          </a:p>
        </p:txBody>
      </p:sp>
      <p:sp>
        <p:nvSpPr>
          <p:cNvPr id="75"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Times New Roman"/>
            </a:endParaRPr>
          </a:p>
        </p:txBody>
      </p:sp>
      <p:sp>
        <p:nvSpPr>
          <p:cNvPr id="76" name=""/>
          <p:cNvSpPr/>
          <p:nvPr/>
        </p:nvSpPr>
        <p:spPr>
          <a:xfrm>
            <a:off x="0" y="4800600"/>
            <a:ext cx="213372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introduction of new information technology has a ripple effect, raising new ethical, social, and political issues that must be dealt with on the individual, social, and political levels. These issues have five moral dimensions: information rights and obligations, property rights and obligations, system quality, quality of life, and accountability and control.</a:t>
            </a:r>
            <a:endParaRPr b="0" lang="en-US" sz="9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78" name=""/>
          <p:cNvSpPr/>
          <p:nvPr/>
        </p:nvSpPr>
        <p:spPr>
          <a:xfrm>
            <a:off x="175248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pic>
        <p:nvPicPr>
          <p:cNvPr id="79" name="" descr=""/>
          <p:cNvPicPr/>
          <p:nvPr/>
        </p:nvPicPr>
        <p:blipFill>
          <a:blip r:embed="rId2"/>
          <a:stretch/>
        </p:blipFill>
        <p:spPr>
          <a:xfrm>
            <a:off x="2590920" y="2590920"/>
            <a:ext cx="4403520" cy="3313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60020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8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oral dimensions of information ag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issues raised by information systems includ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 and control</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quality</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lif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60020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8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key technology trends that raise ethical issue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power doubles every 18 months</a:t>
            </a:r>
            <a:endParaRPr b="0" lang="en-US" sz="20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reliance on, and vulnerability to, computer systems</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torage costs rapidly declining</a:t>
            </a:r>
            <a:endParaRPr b="0" lang="en-US" sz="20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ying databases on individuals</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nalysis advances</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ability to find detailed personal information on individuals</a:t>
            </a:r>
            <a:endParaRPr b="0" lang="en-US" sz="18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ing and nonobvious relationship awareness (NORA)</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ing advances and the Internet</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moving and accessing large quantities of personal data</a:t>
            </a:r>
            <a:endParaRPr b="0" lang="en-US" sz="1800" spc="-1" strike="noStrike">
              <a:solidFill>
                <a:srgbClr val="000000"/>
              </a:solidFill>
              <a:latin typeface="Times New Roman"/>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09Z</dcterms:modified>
  <cp:revision>375</cp:revision>
  <dc:subject/>
  <dc:title>PowerPoint Presentation</dc:title>
</cp:coreProperties>
</file>